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6DA-CE66-4A42-81AB-52DC3FE0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6AC-C311-4D8D-B6BA-F01CF04C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6B4-0908-40CA-B064-F3201476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257-36EB-411F-8709-C4A53A36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FB2-F8DF-4EFC-B2C7-683BF15B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440-31C2-4158-8BB4-6A1EFADC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F2A-7599-4884-B073-CDCC07D8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41F-944B-4C12-9A72-7B180F37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A51-E2F5-4C53-AD08-A0CC98C4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B05-1721-497D-AE95-7BC296C4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6A4-F23B-4109-8957-CDE7F029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C704-99AE-4794-A7E3-33069815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E415-E248-4B13-B41A-D045508B6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oak Std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oak Std"/>
              </a:rPr>
              <a:t>by.   Sydney Matth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- Electronic Mail which allows individuals with an account to send messages to another person with an </a:t>
            </a:r>
            <a:r>
              <a:rPr b="0" lang="en-US" sz="2800" spc="-1" strike="noStrike">
                <a:solidFill>
                  <a:srgbClr val="000000"/>
                </a:solidFill>
                <a:latin typeface="Blackoak Std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- Internet relay chat was developed in 1988 by Jarkkoo  Oikarinen and allows instant online communicating with someone else who is also online by typing messages back and f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S- Bulletin Board Service allows a user to participate in discussio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-Hypertext Transfer Protocol is used for handling the transmission of pages between a web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eb 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P-File Transfer Protocol is used to rapidly Transfer F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net-A program used on networks such as the Internet to allow users to remotely Log on to a server on th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pher- One of the first widespread Internet browsing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et- A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net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by a single organization and only Accessible by authorized Us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wall-A network Security System that prevents unauthorized Network A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7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7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net-An extended Intranet that provides Various Level of access to authorized members of the pub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Profiling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arketing Technique that collects online data about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s-Small Files that contain information about the web sites an individual has 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- A collection of servers that off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width-The amount of data and the speed at which the data can travel over the transmission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A computer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esses a server to request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L-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- A widely used protocol for lans that uses a bus or star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top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nnects the network devices by twisted pair wiring coaxial Cable, or Fiber Optic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iquette-The Etiquette that should be followed when using a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-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- The logical Arrangement of the nodes on a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Networks-A type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twork that does not require the use of C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Interface Card- A circuit Board that goes into the base unit of a computer or other device in a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-Internet Service Provider is company that offers access to the internet for a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-A series of related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9:04Z</dcterms:created>
  <dc:creator>770765</dc:creator>
  <dc:description/>
  <dc:language>en-US</dc:language>
  <cp:lastModifiedBy>770765</cp:lastModifiedBy>
  <dcterms:modified xsi:type="dcterms:W3CDTF">2009-04-17T15:23:00Z</dcterms:modified>
  <cp:revision>3</cp:revision>
  <dc:subject/>
  <dc:title>Vocabulary 1</dc:title>
</cp:coreProperties>
</file>